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A62-7E52-418B-8809-769EA07F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E20-B907-4453-9D18-2E9D8DDC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7B8-EF92-43A0-A9C9-4F47C435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2E8-680F-48F4-93EF-9E4B5C8A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B63-B398-4FC4-8BB9-D14F31B8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6A0-22D0-469B-A3D2-8D7C3046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3F7-1C7C-429A-9080-C207E349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07A-130F-4004-97BF-FA18EC2B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043-A8E4-49E5-BED1-8A0834D0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9E1-B357-48BF-81FE-B0DAFB05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4E4-FB10-40ED-9120-1F223E3B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69B-5374-41DC-BAE0-67EC946F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E3D1-2D19-496F-922E-928E57734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3505320"/>
            <a:ext cx="7162920" cy="243828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2590920"/>
            <a:ext cx="7162920" cy="83808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838080"/>
            <a:ext cx="7162920" cy="167652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7668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@ Arthropod Genomic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806600" y="14983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8174520" y="2812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78000" y="990720"/>
            <a:ext cx="4527720" cy="487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27360" y="838080"/>
            <a:ext cx="5654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rsday 7-9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ntributions to Genom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Elsik, Christopher Childers, Darren H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16240" y="1668600"/>
            <a:ext cx="6067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7:30-9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o Databases and Integration with GMO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in, Dave C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0" y="2590920"/>
            <a:ext cx="579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11:25-11:45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ated arthropod genes and ways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8021520" y="4423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63000" y="3505320"/>
            <a:ext cx="4730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5-6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ative annotation of Drosophilid dicistronic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4041720"/>
            <a:ext cx="6340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10-11:30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lete System For Community Genome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: Database Resources for Emerging Model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ive genomics and database construction for Lepidop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cated Arthropod genes, and ways to find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Base: A genome resource for arthropod vectors of human patho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ectorBase Manual and Community Annotation Submission 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erflyBase: A framework for comparative genomics in butterflies and mo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6019920"/>
            <a:ext cx="3429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Got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2240" y="5791320"/>
            <a:ext cx="1255680" cy="92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960" y="762120"/>
            <a:ext cx="1340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le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tl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i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conius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Annot-L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08-04-09T18:43:59Z</cp:lastPrinted>
  <dcterms:modified xsi:type="dcterms:W3CDTF">2008-04-09T18:44:14Z</dcterms:modified>
  <cp:revision>12</cp:revision>
  <dc:subject/>
  <dc:title>PowerPoint Presentation</dc:title>
</cp:coreProperties>
</file>